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C0-D112-4AEF-A8E9-B22DA6DE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E25-2EA6-4F5B-8DFF-B5A1745A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6BF-EAA4-434B-9FC0-9EABC6D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1CA-E387-4A04-9E2F-7DD05924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9A7F-BC24-459F-982A-6EB8B2DA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3BF4-74BA-448E-BEFA-03B651ED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B115-1E13-42B5-86AD-C0B7B42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8CAC-3978-46C4-8B51-F27FA7B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691C-9C90-4B9A-80D4-68ADC92C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086-2D2E-4667-B9C8-A939491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8CB-C1CE-49E9-B166-2E36330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FFD-176C-484A-B537-5DD2B31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6D9-F1AF-447D-9943-38CAC7C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3CA8-1856-4798-96E5-5BCF06B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66C-C446-4B63-99D6-04EE92E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12A-1EF4-40B4-918C-97D137BD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4B7C-EA75-4F44-9112-5E4DD848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70A-9658-468A-83D7-D132216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F13-CCC0-488E-A26E-5A103C5F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000-4AAD-483F-BE91-EE0E52FF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895-BB66-4387-B003-29AA5134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12A-F375-4730-9E60-1C17808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93D-337D-4D58-BD53-6ECC861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70A-405B-4AFB-9E1C-3F2595D7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AAD4-AE43-4C1C-986C-82A365C4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1C9-ECF3-4015-8AAB-C6807D3C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Fahim Zibran</cp:lastModifiedBy>
  <dcterms:modified xsi:type="dcterms:W3CDTF">2009-01-19T04:08:26Z</dcterms:modified>
  <cp:revision>16</cp:revision>
  <dc:subject/>
  <dc:title>CPSC 203 Tutorial Section: T32</dc:title>
</cp:coreProperties>
</file>